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96E-EAF4-41B8-BB81-54E1F793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D8E-14F2-47CC-AA0E-08EAC4C7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A70-AEB5-44BE-BA1A-916B2F204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36B-B8B1-4997-A3DD-09158BBA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FA10-EC6F-481A-A5DC-570A3150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7FE8-03EC-4884-AF0D-DBEDBABE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471-597C-4515-A506-2ED5C414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415F-90AE-485D-A98D-F52382BB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D66-B62E-4D62-A411-6AD3829F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3A04-6C95-4A3A-BF45-6A41A47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2256-2456-44A8-A0C7-A01313B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1F3-E60B-43E0-82FB-2D18AC9B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837-8CA3-4E01-85F9-6BA696D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08D3-5208-4329-A8DF-4BF5F157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252C-93AB-41C1-AF1D-2A582DAF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C00B-6A6C-4FD0-B250-A085A46B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2916-872E-4948-85CB-B426CD053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9C4-1B01-4555-9EAD-CB8DD9C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8E1-0A7B-4936-B674-483E65B1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5F3-9510-4375-878C-054DE84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B2D-A560-46F3-BE5D-F6B89D7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C9F-2F21-4F33-B091-1823722A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CE5-B031-4110-A91E-226A5729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506-24D2-44CB-B181-E8040E1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9EE-8F2D-4B3A-8AD9-B3F995F9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122A-B344-4A4B-8DB3-D75C5BC97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ZENTÁCI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F (Közös Értékelési Keretrendszer) KUTATÁS EREDMÉNYEI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 MUNKATÁRSAKKAL KAPCSOLATOS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saját elégedettségüket (vagy elégedetlenségüket) megalapozó eredményeket vizsgált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9, mely a Tervezés – Megvalósítás – Ellenőrzés – Beavatkozás rendszerében a Megvalósítás szakaszára tehető. A mért eredmények stagnálnak, és/vagy néhány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89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. TÁRSADALMI KÖRNYEZETRE GYAKOROLT HATÁSOK EREDMÉNY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t el a társadalmi környezet elvárásaival összhangban (az élet minőségére gyakorolt hatás, a környezet és az erőforrások megőrzése, a szervezet saját hatékonysága, stb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kritérium átlaga 56, mely a Tervezés – Megvalósítás – Ellenőrzés – Beavatkozás rendszerében az Ellenőrzés szakaszára tehető. A mért eredmények javuló tendenciát mutatnak, és/vagy a legtöbb kitűzött cél teljesül. A 8.2. akritérium eredmény (63 pont) kimondottan magasnak számí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113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ALAPVETŐ TELJESÍTMÉNY CÉLOKKAL KAPCSOLATOS ER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 el feladatai és célkitűzései tükrében, továbbá mennyire elégedettek a Hivatal eredményes működésében érdekelt szervek és személ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789360"/>
            <a:ext cx="370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5, mely a Tervezés – Megvalósítás – Ellenőrzés – Beavatkozás rendszerében az Ellenőrzés szakaszára tehető. A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040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400720" cy="2530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4317840"/>
            <a:ext cx="481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04036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4297320"/>
            <a:ext cx="47545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062080"/>
            <a:ext cx="49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őző kutatás – 2005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rvezetfeljesztés – teljesítményértékelés – C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önértékelés résztvevőinek ki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tatás a kutatásban résztvevők számá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2010.02.2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F kérdőív kitöl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ÉRDŐÍVEK FELDOLG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tlag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ok számtani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órá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számok eltérése az átlag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alacsony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magas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rtékelhető válaszok száma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32 kitöltő munkatárs közül azok, akik konkrét, számszerűsíthető pontszámmal értékelték az adott alkritériumot (a 0, a kitöltetlen rubrika, az intervallum megadása nem értékelhetőnek minősü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0800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eldolgozás számszerűsíthető eredménye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VEZE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vezetők miként határozzák meg, fejlesztik a közigazgatási szerv küldetését és arculatát, hogyan fejlesztik ki a hosszú távú sikerhez szükséges értékeket és biztosítják azok érvényesülésé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895640" cy="28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3573360"/>
            <a:ext cx="3706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kritérium átlaga 38, mely a Tervezés – Megvalósítás – Ellenőrzés – Beavatkozás rendszerében a Megvalósítás szakaszára tehető. Tehát a vezetés megalkotja a megfelelő intézkedésekre vonatkozó terveket, dokumentumokat, az intézkedések végrehajtásra kerülnek, de a felülvizsgálat, hogy a megfelelő intézkedésekre került-e sor – részben elma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TRATÉGIA ÉS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hajtja végre küldetését és valósítja meg jövőképét az érdekeltekre összpontosító stratégia útján, a releváns politikák, tervek, célkitűzések és célok segítség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645000"/>
            <a:ext cx="370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PDCA ciklus értékelési kritériumait tekintve a Megvalósítás szakaszra esik. A kapott eredmény azt mutatja, hogy a hivatal rendelkezik a megfelelő intézkedésekre vonatkozó tervekkel, dokumentumokkal, az intézkedés is végrehajtásra kerül, de a szükséges ellenőrzés már nem történik m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504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MBERI ERŐFORRÁS-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irányítja, fejleszti és aknázza ki a munkatársak tudását egyéni, csoport és szervezeti szinten egyaránt, valamint saját politikájának megvalósítása és a munkatársak hatékony munkavégzésének megvalósítása céljából hogyan szervezi a rendelkezésére álló erőforrá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573360"/>
            <a:ext cx="3706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Tervezés – Megvalósítás – Ellenőrzés – Beavatkozás rendszerében a Megvalósítás szakaszára tehető. A hivatal HR gazdálkodásában jellemző, hogy rendelkezik a megfelelő intézkedésekre vonatkozó tervekkel, dokumentumokkal, a szükséges intézkedések is végrehajtásra kerülnek. Az ellenőrzés folyamata viszont nem történik meg, nem vizsgálják felül, hogy vajon a megfelelő lépéseket teszi-e a hivatal az elvárt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5113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GYÜTTMŰKÖDÉS ÉS ERŐFORR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tervezi és kezeli kapcsolatait és belső erőforrásait politikája és stratégiája támogatására, valamint folyamatainak hatékony működtetése célj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9, mely a Tervezés – Megvalósítás – Ellenőrzés – Beavatkozás rendszerében a Megvalósítás szakaszára tehető. A hivatal rendelkezik a megfelelő intézkedésekre vonatkozó tervekkel, dokumentumokkal, a szükséges intézkedések végrehajtásra kerülnek, viszont az ellenőrzés folyamata hiányzi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FOLYAMAT- ÉS VÁLTOZÁS-MENEDZ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saját politikáját, stratégiáját, valamint az ügyfelek / állampolgárok elégedettségét szolgálva hogyan kezeli, szervezi és fejleszti saját folyamat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393372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3, mely a PDCA ciklusban a Megvalósítás szakaszára tehető, tehát a hivatal elkészít dokumentumokat, az döntéseket hoz, de az ellenőrzésre nem fordítanak kellő figyelmet, így a nem lehet tudni, hogy a megfelelő dolgokat teszik-e a megfelelő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5040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ÜGYFÉLKÖZPONTÚ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 Hivatal által tett intézkedések eredményességét értékelték az ügyfélvisszajelzések alapj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7, mely a PDCA ciklus rendszerében az Ellenőrzés szakaszára tehető. A válaszok alapján az eddig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10:13:41Z</dcterms:modified>
  <cp:revision>94</cp:revision>
  <dc:subject/>
  <dc:title>A KÖZPONTI TEAM FELADATAI</dc:title>
</cp:coreProperties>
</file>